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6E3B-DFAB-4784-81AF-54C35B39E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FA9E-CE65-4CFA-A911-D67D83803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4F31-C76A-4B6D-9EFA-4EE5EB382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3EA6-8679-41C1-BEB6-622B7A11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433E-C444-47FB-A592-C28D8F156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F76C-6B65-46D1-9D30-CED5E669B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C0C2-C2AA-4346-89C7-75AB6A63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1C31-D2BB-4417-8579-9DB91174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8ACD-1507-491E-967B-B9D3C5F7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226B-805D-4099-A9CC-707FBDFC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BE3F-DFF3-485E-8A35-03A04603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7197-6B9A-4FDC-B92E-35A07B13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839F-7A2E-416C-996E-09DC2CD6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92F6-43F7-45BD-8BCC-735AF7DB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6EEC-78DA-4875-9398-6C6B8382F2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rwick Area High Sch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Edu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lent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nors 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dependent Study Project (IS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Research in Medicine (A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4648320" y="2057400"/>
            <a:ext cx="3962160" cy="62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Gifted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United Nations (MUN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udent Coordina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fted Semin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 attends one day per w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ximately 15 hours /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et GIEP requirements for goal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ty to meet with similarly identified 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ty to display time management, communication and personal responsibility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7246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ty to interact with a professional &amp; experience the occupational set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9, 10, 11,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tain a “log”, complete evaluation es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area of interest (see next sl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for cre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student/parent 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time of year including sum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b Shadowing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pation of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t job shad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esthesiology, Chiropractic, Computer Gaming, Culinary Arts, Dance, Dentistry, Elementary Education, Information Technology, Meteorology, Music Education, Orthodontics, Pharmacy, Photography, Physical Therapy, Veterin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nors 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dependent Study Project (IS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Research in Medicine (A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648320" y="2057400"/>
            <a:ext cx="3962160" cy="62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M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Model United Nations (MUN)</a:t>
            </a: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udent Coordina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hletic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llenging, mathematical applications and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9, 10, 11, 12 (MS by invi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-curricular club, afterschool meetings, outside of school compet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a announcement, fall 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 United 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 and represent a country in a role play debate of contemporary world iss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to grades 9,10,11,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t and guided research, written position papers, public speaking/debate, “diplomac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hops (fall) &amp; MUN Conference (spring) held at Bloomsburg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-curricular clu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a announcements, late fall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nors 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dependent Study Project (IS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Research in Medicine (A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4648320" y="2057400"/>
            <a:ext cx="3962160" cy="62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United Nations (MUN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Odyssey of the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Rob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Student Coordina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ive problem solving compet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K-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ember team, student developed           skit performance &amp; spontane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long-term problem)               - (short term probl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etition held in early M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-curri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roll team by Nov./D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application, problem solving, and interpersonal skills within the context of building and programming “robot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go MindStorms® and Legos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9, 10, 11, 12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-curricular clu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Honors 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dependent Study Project (IS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Research in Medicine (A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648320" y="2057400"/>
            <a:ext cx="3962160" cy="57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United Nations (MUN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udent Coordina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udent Coordinator Pos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d advisors with planning, organizing, communications and task comple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d Research in Medic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United N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Open Ho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fted Education &amp; Talent Development at B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5000"/>
          </a:bodyPr>
          <a:p>
            <a:pPr marL="325800" indent="-32580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r. Bruce Guenther, grades 11-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r. Todd Gunther, grade 9 -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rwick Area High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ctr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om 4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59 – 6400 x314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799"/>
              </a:spcBef>
              <a:buClr>
                <a:srgbClr val="007e3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39"/>
                </a:solidFill>
                <a:latin typeface="Times New Roman"/>
              </a:rPr>
              <a:t>bguenther@berwicksd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799"/>
              </a:spcBef>
              <a:buClr>
                <a:srgbClr val="007e3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39"/>
                </a:solidFill>
                <a:latin typeface="Times New Roman"/>
              </a:rPr>
              <a:t>tgunther@berwicksd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ww.bhsgifted.wikispaces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Honors Cour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academic rigor &amp; pacing in content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to grades 9,10,11,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motivated, responsible, independent lear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lish, History, World Language, Math, Science,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credit, weighted by 1.0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 recommendation / scre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ring – enrollment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nors 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Independent Study Project (IS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Advanced Research in Medicine (A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648320" y="2057400"/>
            <a:ext cx="3962160" cy="62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United Nations (MUN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udent Coordina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pendent Study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ntor and teacher supported research in area of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to grades 9,10,11,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 paper, log and formal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credit, weighted by1.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request and written propo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GIEP or early F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ced Research in Medic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entor and teacher supported, independent research within the medical field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ncl. Veterin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pen to grades 9,10,11,1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search paper, log and formal present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 credit, weighted by 1.0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options for 1.01 or 1.06 als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applic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ience teacher recommend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rc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or summer start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ru Septembe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or fall sta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nors 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dependent Study Project (IS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d Research in Medicine (AR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dvanced 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u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4648320" y="2057400"/>
            <a:ext cx="3962160" cy="62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United Nations (MUN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udent Coordina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ced Placement Cour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creased academic rigor &amp; pacing in content areas and the opportunity for college credi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pen to grades 11, 12 onl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glish (11 &amp; 12), US Gov, Calculus, Sciences, Languages, Computer Scie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lf-motivated, responsible, independent learners, required to complete AP Exam (May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 credit, weighted by 1.0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y application –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acher recommendation / scree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rch – enrollment pro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al Enroll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roll in college course taken during the HS day – on campus, on-line, distance lea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11, 12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in college credits, discounted tu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BHS credit, weighted by1.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-Feb – Guidance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21:30:46Z</dcterms:created>
  <dc:creator>Christine Guenther</dc:creator>
  <dc:description/>
  <dc:language>en-US</dc:language>
  <cp:lastModifiedBy>End User</cp:lastModifiedBy>
  <dcterms:modified xsi:type="dcterms:W3CDTF">2011-08-15T21:28:39Z</dcterms:modified>
  <cp:revision>50</cp:revision>
  <dc:subject/>
  <dc:title>Berwick Area High School</dc:title>
</cp:coreProperties>
</file>